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166-D55C-4ABA-BEF5-EB73ACCA4AE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AA9-908A-45C6-9040-38CF61860BCD}" type="slidenum">
              <a:rPr b="0" lang="en-AU" sz="12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192-E53C-45FF-BA26-3B2128DD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0A5-B146-48B8-97BA-0216F35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B99-CA03-41B6-96B8-8A0A5115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F48-C06A-476D-92DD-CA4FBA22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154A-703F-48A3-8A9B-8733B67A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C9E-0C5B-4EC8-9EB4-9A86ED6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1C1-6331-4EA0-A57D-B02A756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75B-AAD7-468B-83E9-A1CE163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EA1-EDF9-4914-B57F-2A67450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256C-225A-418E-A8DF-1E6BF81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F8AC-E880-4DEB-8893-0EEF022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CBD-9DAA-4426-8975-0A195208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2412-9041-4095-BBC8-A44FD83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370-918D-4570-96D9-E9E3A6A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3155-D240-4292-A534-B006FDA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4E25-4C3F-4310-A88D-7FF575CF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8EF-C2F2-48B8-B98B-00B34592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F4F-47DB-4DE5-9B98-1B38724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B4A-B732-40A4-91BE-C90FB028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647-915B-4511-B85E-50E55C6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162-2CE9-44BF-BCC3-112CFCD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0A9-80A2-4F6C-B6AC-88F7AD3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E02-A174-4239-BABF-805E966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208-D1DA-46C6-911B-788BA09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4DB-C4C0-48F4-8C9C-3311DAA19A73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9945-ECC2-4A98-B9AE-809072B39423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476280"/>
          <a:ext cx="4321080" cy="5678280"/>
        </p:xfrm>
        <a:graphic>
          <a:graphicData uri="http://schemas.openxmlformats.org/drawingml/2006/table">
            <a:tbl>
              <a:tblPr/>
              <a:tblGrid>
                <a:gridCol w="969840"/>
                <a:gridCol w="3351240"/>
              </a:tblGrid>
              <a:tr h="29196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oints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4734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erve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Very Lon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tar shaped at one en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end electrical messag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All over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Detect touch, smell, taste, sound, light and pain 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14713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uscle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Long and Elastic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Different Typ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keletal in musc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mooth in blood vessels and digestive system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Work in pair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14605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ed Bloo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Carry oxygen around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mall siz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No nucleu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Live for a few week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ade in bone marrow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9810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Bon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inerals like calcium surround bone cell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inerals make bone cells hard and stron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859280" y="476280"/>
          <a:ext cx="4105440" cy="5310000"/>
        </p:xfrm>
        <a:graphic>
          <a:graphicData uri="http://schemas.openxmlformats.org/drawingml/2006/table">
            <a:tbl>
              <a:tblPr/>
              <a:tblGrid>
                <a:gridCol w="1081080"/>
                <a:gridCol w="3024360"/>
              </a:tblGrid>
              <a:tr h="2746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oints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52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Lung Epithelia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Line nose, windpipe and lung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Have hair like tips called cili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top dust and fluid getting into lung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Cilia move to remove dust and flui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11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Adipos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tore fat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Round shap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Found under skin, chest, waist and buttock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Skin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utside surface of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Flattened shap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Cover and protect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Sperm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Have long tails for swimmin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nly found in ma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Eg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ome of the largest cells in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Round and stores plenty of foo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nly found in fema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imal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tem Cell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Unspecialised and reproduce indefinitel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31640" y="3141720"/>
            <a:ext cx="5940720" cy="3454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732720" y="3716280"/>
            <a:ext cx="20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Toti – Tota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Pluri – Mor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Multi - Many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Where do they come from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1749600" y="1773360"/>
            <a:ext cx="119196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Embryo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Freeform 19"/>
          <p:cNvSpPr/>
          <p:nvPr/>
        </p:nvSpPr>
        <p:spPr>
          <a:xfrm>
            <a:off x="1838160" y="2957400"/>
            <a:ext cx="119412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mbryon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Freeform 20"/>
          <p:cNvSpPr/>
          <p:nvPr/>
        </p:nvSpPr>
        <p:spPr>
          <a:xfrm>
            <a:off x="4044960" y="1773360"/>
            <a:ext cx="119376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Bone Marrow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Freeform 21"/>
          <p:cNvSpPr/>
          <p:nvPr/>
        </p:nvSpPr>
        <p:spPr>
          <a:xfrm>
            <a:off x="4135320" y="2957400"/>
            <a:ext cx="119232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dult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Freeform 22"/>
          <p:cNvSpPr/>
          <p:nvPr/>
        </p:nvSpPr>
        <p:spPr>
          <a:xfrm>
            <a:off x="5076720" y="4075200"/>
            <a:ext cx="1192320" cy="596880"/>
          </a:xfrm>
          <a:prstGeom prst="pie">
            <a:avLst/>
          </a:prstGeom>
          <a:solidFill>
            <a:srgbClr val="7030a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Somat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Freeform 23"/>
          <p:cNvSpPr/>
          <p:nvPr/>
        </p:nvSpPr>
        <p:spPr>
          <a:xfrm>
            <a:off x="6012000" y="1773360"/>
            <a:ext cx="129672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Umbilical Cord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Freeform 24"/>
          <p:cNvSpPr/>
          <p:nvPr/>
        </p:nvSpPr>
        <p:spPr>
          <a:xfrm>
            <a:off x="6012000" y="2957400"/>
            <a:ext cx="119376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mbilical Cord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Freeform 25"/>
          <p:cNvSpPr/>
          <p:nvPr/>
        </p:nvSpPr>
        <p:spPr>
          <a:xfrm>
            <a:off x="1793880" y="4075200"/>
            <a:ext cx="1193760" cy="596880"/>
          </a:xfrm>
          <a:prstGeom prst="pie">
            <a:avLst/>
          </a:prstGeom>
          <a:solidFill>
            <a:srgbClr val="7030a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Embryon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Freeform 26"/>
          <p:cNvSpPr/>
          <p:nvPr/>
        </p:nvSpPr>
        <p:spPr>
          <a:xfrm>
            <a:off x="3757680" y="4992840"/>
            <a:ext cx="1193760" cy="596880"/>
          </a:xfrm>
          <a:prstGeom prst="pie">
            <a:avLst/>
          </a:prstGeom>
          <a:solidFill>
            <a:srgbClr val="ff3305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09" name="Straight Arrow Connector 7"/>
          <p:cNvCxnSpPr/>
          <p:nvPr/>
        </p:nvCxnSpPr>
        <p:spPr>
          <a:xfrm>
            <a:off x="2339640" y="364464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/>
          <p:nvPr/>
        </p:nvCxnSpPr>
        <p:spPr>
          <a:xfrm>
            <a:off x="4642920" y="3618000"/>
            <a:ext cx="79308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/>
          <p:nvPr/>
        </p:nvCxnSpPr>
        <p:spPr>
          <a:xfrm flipH="1">
            <a:off x="6055920" y="3605040"/>
            <a:ext cx="56880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H="1">
            <a:off x="5152680" y="4797360"/>
            <a:ext cx="56736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3" name="Straight Arrow Connector 15"/>
          <p:cNvCxnSpPr/>
          <p:nvPr/>
        </p:nvCxnSpPr>
        <p:spPr>
          <a:xfrm>
            <a:off x="2771280" y="4797360"/>
            <a:ext cx="79308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4" name="Straight Arrow Connector 29"/>
          <p:cNvCxnSpPr/>
          <p:nvPr/>
        </p:nvCxnSpPr>
        <p:spPr>
          <a:xfrm>
            <a:off x="233964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5" name="Straight Arrow Connector 30"/>
          <p:cNvCxnSpPr/>
          <p:nvPr/>
        </p:nvCxnSpPr>
        <p:spPr>
          <a:xfrm>
            <a:off x="464292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6" name="Straight Arrow Connector 31"/>
          <p:cNvCxnSpPr/>
          <p:nvPr/>
        </p:nvCxnSpPr>
        <p:spPr>
          <a:xfrm>
            <a:off x="662436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6-03T00:56:06Z</dcterms:modified>
  <cp:revision>62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